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2.png" ContentType="image/png"/>
  <Override PartName="/ppt/media/image10.gif" ContentType="image/gif"/>
  <Override PartName="/ppt/media/image13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dt" idx="5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 type="ftr" idx="5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 type="sldNum" idx="6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2916-20B3-42FA-A734-4847E433BB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7B33-1CA2-4101-B19C-72898B324A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6F92-F2F9-479F-9E38-CE615FEB72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1AE6-E25B-41F5-A9B9-6887308743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ED8A-47C1-41E5-9027-5685718D2C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0374-7FFA-43E9-8D00-054A70C16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E64A-CE67-4BCE-9F86-0F5D8AEE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DA3B8-3A36-4C79-8B9E-27372AE8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4DB5A-0F58-4A5E-B7C9-53E1B419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9FCF5-23C8-42FB-904B-901BD628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35DE3-2195-45EA-97E6-8C9F9128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9B977-80D4-4560-B20C-95171AB2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493C3-46B8-4494-9AA9-969F696E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2E576-B53D-41AD-8E21-3AE5B949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63BEB-DC20-4C93-B888-682774BED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6C6CC-FAA0-4E3C-83B6-6483270C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7DA31-AA0C-4F8B-8967-CD14431B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F48D-D324-4A9C-B9D1-F16E6F76F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C1BBD-5F68-4183-95D3-1553861E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984A6-BF1A-42C1-9AAA-9C2EB6D1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A355F-9BDA-4231-914A-F5B989AA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D2EAB-5D6C-4D17-A664-9B272899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E8FCF-BD18-4B85-87D6-338B1C9A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2C157-E1FE-4FFE-A232-5E880798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46C07B-A0B8-4D8A-8C97-653CE292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5AD9D7-2692-4D61-B9B6-E8EC8098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7CF14-A0A5-4B6E-B014-2879E88C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42B140-E6CB-4521-A18B-0FE79A86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6908-E685-4844-9FB7-5E4BB3C59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71F21-9D7F-4484-B220-508026C5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D301A-DD11-4661-A1B1-5EA15283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9F22B-ED13-4581-A101-25D82D51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D42FF-5A06-4102-8D9C-0D2352FB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804BA-4B26-470B-9DA1-E365C185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8A166-4368-4090-8AD8-CBF412E5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573C1-3BE6-4925-B9C2-6A8E6E8F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2B84C-47B0-4B44-8D9F-FA583AD9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C2837-1BA0-4D84-8F7E-F5AEB536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6EBCC-9E5D-4CC9-A31C-674A6363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E305-C9F3-4FDB-857A-CC9E4C4BA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A44D6-1DA7-488F-9185-2B807FB9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76975-9C8E-4A2A-B700-17E72B184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3513C-7C5A-446E-8B36-9ACCC6F74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2D90DE-969E-4C2A-96F2-65CF15D5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9EB32-A12D-4529-8FA5-B9D39ABA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16832-75FF-4B50-B734-35405882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F135BB-D8EC-40F5-A106-6522BA3C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D9FFD8-59EB-4CF8-8EFA-92D7AF27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6C93AE-C82C-42D1-A3C6-462D63B6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3350EE-E8C3-40F2-AB92-1045517E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FC56-1812-4E9D-8830-DA82255A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E74883-5ED7-42B5-8F2C-A3A673BC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9BC14E-C0F4-4E3B-ACF5-31BC1E00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F0CE2-7A05-445A-BCA1-37D11595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DE0900-A5CE-4B3A-9CF3-48D0FF099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A70A0-8511-4D63-BB24-2F2F952F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0F46AA-6177-4D53-A45B-0D20D2C7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FC46C0-CECD-4465-A237-3BC3A229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73AAEF-C915-426E-87BC-D318A7E9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BE1BD8-6914-4DC0-825B-F485FA07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54E092-F27A-4A54-B14E-9708E56A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F640-6A6E-421C-9EA9-AAB034C9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175F31-8EAD-4149-8907-6FD43F15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B23A63-CA99-458A-B4FE-1185029D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99D094-0D31-49B7-88C9-3FE071E9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C7C8E2-3832-4E60-BC86-A9C646EE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835DEB-276A-45AB-8566-6C1DEB99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29173B-E34F-4435-95AE-F52F4ECD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00757B-D793-4A4C-90EE-F5509AE7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97F116-47FB-41F8-8F76-2920646E9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45CE72-447D-4D3D-9CE7-DFDA0E8D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0B620B-8542-4B0E-A94F-24C3AC34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6A32-A692-47B7-8903-12BD4D6E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DF128E-1565-4C32-9BD1-54FDA1E9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2C7FA0-959D-4912-95E5-F257C5A3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1C1739-1605-4F0E-B7C6-44693D21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725222-B3CA-442C-B591-FDDF8A35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6AC43C-9387-463A-B28A-2FE48A03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9F0C1A-A17C-4F40-9548-83142E64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7D2148-457D-44A8-BF02-53026108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F17436-6AAA-4A74-9491-FE552215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335EA7-D292-45F2-946B-8C9289C2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A6D092-1C4B-4B1A-A4EE-3FA75E90E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5C01-B431-48E1-8B27-E4F2EED2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2651E7-5D3F-450F-9D19-FC3CB9EB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0D1C59-74E9-4B6F-AC25-3F6F7CB8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3083B4-3989-49B1-A128-D292EF9E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21B2D6-521C-4CEB-A5D9-C98AFCBD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D1DE09-0420-4044-B8F2-05C2910A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131683-5A51-46B1-825D-391F8EBE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02CADE-0A92-4DC1-B80A-9D4DCE77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8CB366-BA68-4705-8F62-C2108EAF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F4C31A-6001-41FE-BE18-ADC23F78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43D8A4-292E-40F7-8982-824ED6C7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9AC2-052F-4B0F-93A2-77F5F5BD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132FA9-34F2-4610-88A0-4C1C4FA54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8CF1B4-2C14-4E50-AE06-C154193E4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2558DD-D124-4721-BBB7-1E8F03B5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00965E-7FE7-4E17-BEB5-198165AD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86BF28-8B84-4C1E-B02C-31577CFB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781634-CD5D-40E2-AC56-6EB7C662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884163-AEF5-446C-A514-AE649388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81DF69-C3E3-4030-B5F3-232DCEAA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562DF6-5AC6-4F58-8743-4344FF11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9D962E-525F-4393-BE07-3FC4657A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4B0C-444A-4F43-8949-46988AB0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DA6081-A656-4397-B602-F20682AB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DBFC64-46A6-4970-8ECC-A29AB99F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9DA9D0-EF63-4530-A714-15C564321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35F8A0-C91C-42C0-A7C2-062C128E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DC7B5E-0E73-49AA-A71D-EF545B32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7200EE-2FE9-4A20-9FC8-05D0FEAD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8B42F4-93EB-4E0F-B6C6-A90045D3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85C242-33F9-48F9-A931-FC4419DD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A9514E-F0A0-4E89-89F0-89185280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D2C373-DF9E-43EC-8A0C-33A49CE3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B0AF-7A0A-4FEE-B74A-4F597CFE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B828-E9AE-4AE2-A3D2-939067B3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0F8D92-64E9-4396-9C9B-878A2242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FB14DE-AFB4-4C51-9816-6F510317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381525-E236-4F4C-A3AC-1CD4FCDE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F734B4-CAFB-4110-87B9-CCE8368C4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3D5B19-E7D0-4303-811A-F6DE4254B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BC9B50-285B-4AE7-9DB4-E2F70D880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5B480C-2D3D-4B9E-9ACB-C5652FEF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78DED6-172F-45EF-926A-C3739D28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DACDB7-598F-41D2-ABFC-59AC4FF0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D17989-2ECB-40D2-8D46-EEEE0C49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5E34-3BCF-4759-8C47-54B0A167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44F36E-84BB-4B12-9E41-41C0256D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3394D8-079E-4558-B123-995F61A3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6BA7ED-D695-4A79-8311-324A4B89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C7D33F-D695-4681-A642-7A85583F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1F696F-9674-4920-9ABA-E3267D39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A41AB2-16CD-4CC0-AADA-9DDD326CF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70565A-A42C-4F87-8792-5DFB46FE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29B14B-0592-4F70-B643-B07EA5D7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ECD4D5-F520-4169-97A4-E6AF2570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225C37-2129-4F67-890D-031355FE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7BB8-7F4E-4753-9478-DB163A77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49F2C0-9E3F-4348-B2AE-833823B4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9AFE6A-FEAD-4CEF-BDE8-A9CE4999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53F678-2DA0-495E-944C-A2D1F24A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3D3A60-7125-4EFD-8795-17E1D942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86D865-EB29-4938-AC71-893EBBED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FE5018-BED1-487D-8CF2-E0B17EB8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17D3DC-EE8B-49A5-9E59-F5841699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99C7F8-883F-4C39-9ECD-2241EEB4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2B3F14-AD40-4604-BFBB-B0270ADDB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74B4-8896-4FD2-9935-3F6EB0CF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1896-A750-4B0F-9E2E-AFBD0CC9F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BD51B-BA97-4865-9D44-1CD9E4864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3A9B1-AC83-402E-B362-5CBA0D48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D677F-40D9-445D-B0C3-57CDF710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11211-47F0-4967-BE11-C6AA6DF7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03066-5575-4F7E-A646-7918A813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C41A-0D06-4CBA-AE32-300CCDD9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7996F-123F-478C-ADD9-3C8180C4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E1173-603B-416C-84F4-84CD6D94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AF8AC-FBC3-482E-B956-3439B890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B6FCE-F933-4C12-9EF1-6911937D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9706A-BEF0-457C-A481-CEEA8F44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1B3C3-0928-49B9-AC8C-A238E7E22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586A8-FA94-4FF6-AB3E-BAF83CAC0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B734D-805F-46DC-AE4E-61CB46D4D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91A6F-4800-4B00-91F0-2366F952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D20AA-0E85-4C2D-8B5E-494A0721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1E5D-92DD-4910-BF6D-19EA49B7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38740-B947-49B5-AC63-B936513F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BC9B1-B10B-485A-8F86-DD14582A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A54CA-EA26-4DA2-9619-B2A2C6FC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D41BA-DB99-410B-AFC0-E54D8591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B6ED2-A39C-450A-A4E9-71201BCA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3AAC0-EA96-401A-AD90-CAAE6348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5B6DA-091F-480E-B7CE-DEC84323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07B86-73B3-4B78-A297-DC3B114A0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6B4AC-BBB2-43CD-9726-7E988C8E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49C7E-BF34-456D-AC40-733B8B87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03CB-456C-4D8F-B8DB-EE18A8CA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E610A-7D0E-406A-B554-D6CECE89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18653-1976-4103-BC04-A890BA8B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33FCE-3CBB-40BC-BB99-95A55CB6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45113-C77C-46A4-9F63-2BF01E6B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96C94-AECF-4B2D-97CE-12239F32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AD833-6318-45ED-808F-E08B0934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1D531-99E6-4F86-8D21-2BD514CF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5091C-6D0E-44C6-9C3C-07F29089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95BC9-466B-4B86-B104-026952C6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ED684-901D-4F53-B161-9F1CCDB4F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60C8-4752-41A9-B554-AECE322B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3EF86-95C9-4DCC-9007-372255F7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E64A3-7AE2-4D92-995C-2D5D787DE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482DA-4292-44C0-896F-0BAB75C5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F42AC-B7C2-4AAD-96E3-4D4DE30B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5F629-F4A6-40CB-BC59-2BD7A6D0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B7D83-53EC-4E50-811C-2BC0A85F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31A47-FD5E-44C0-A5A2-9390CBAD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8F21F-E113-4912-A501-08643327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DE858-7794-43CB-BA93-D4E8DA95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EFA28-FF5F-4AF2-A140-8D1806F8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B631-98FC-4B03-8B29-3DCBC181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1CFC7-E037-4603-9321-7EC5D32A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7BAF7-1D32-4C93-8BD2-C1E92FB9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A87A6-DA84-4380-AC6A-DA367959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1AD3C-5C81-4CF3-A21A-96273E48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0DF0D-D9DD-42D7-A846-799F31CD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B75F2-D52E-46A3-8A6B-73085386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9B479-0EF9-40B6-9D7E-6898ED91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FD33F-163A-411C-9CA5-5E8C33F3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F5968-FD9E-4CE7-BDC3-29588E59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97D55-FD62-4DA6-B994-5EAE8433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02B5-7D90-45E7-91A9-EB48D886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A9AEA-DE11-437F-A4D5-3973EEE0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97BA3-1651-4C7F-9A89-56E3235A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F4AAF-4CF4-45B1-83D2-4FC6292D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B73E2-0A6C-4AE3-901C-7CF5B86F2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D2E22-A7B4-41A4-B79E-60A5E54A6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679B3-E8A2-4F74-BD99-2005B57B9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94769-8154-47BE-A8BE-D95E580D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E03DE-306A-45AC-9371-8D6542E3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9E132-49F6-4AF3-8DDA-4D1BAF8E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4AB13-FC23-4D3E-BAB1-F994E9F9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F59D-D681-4AA7-BDA7-64491BEB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BE338-0BF9-4224-A177-F4DA72B9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2ED3C-F39A-46F9-91EF-45DC6F32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A6A76-C005-4112-A294-A4D52249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8055A-3047-4AE1-BC5F-754E57F7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09E29-3322-47D5-985B-E9A0D7D9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B0F07-E537-48E3-BF8A-F3C51C89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3F9CA-62F5-44F3-BA1E-DB586B5A8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3C21C-3C1F-4BF6-B5DF-B8B55BA8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6BB4A-12FB-45C8-87E0-E651DB9F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FDCD4-22AC-4A49-BCFC-7EAA91A2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8986-5F11-49A5-A9F0-02B7378923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2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704A-7EA6-445A-9105-B458C8EC9B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74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76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FC14-3999-4965-9F84-22FA3D4BAC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2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2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5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3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3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3996-0CF0-4290-BF11-3F40C9FE11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6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7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3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3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1B79-EE05-4F96-BAE1-F8F3FC69AE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615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617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9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4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ftr" idx="4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sldNum" idx="4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A331-A569-4483-9620-111FC4BA67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66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66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4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4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4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A984-98AA-4C30-AEB7-8CC435D949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70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71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dt" idx="46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ftr" idx="47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sldNum" idx="4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7C13-638C-42C7-B077-6F53AD74CB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756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758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dt" idx="4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ftr" idx="5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sldNum" idx="5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BE5B-E8E4-4BC3-B2EF-FDACB25C36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80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0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7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9E06-12DA-47F2-8C9A-613BCE0384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9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850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1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52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4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dt" idx="5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 type="ftr" idx="5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 type="sldNum" idx="5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014F-53C8-44EA-8C02-915236D935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730A-363E-4E89-B86A-DB7B07ACAF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0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0132-501E-4EDA-9332-8AB3D6B223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45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47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52DC-827E-4ADD-A55D-BBA2D6DDF9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9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9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1923-7AFE-41CF-A017-EFA52436B5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3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4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1FF5-B11D-4725-8C4F-45BA1FDCCA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86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88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2CA7-A199-448D-AB56-180A377D69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3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3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7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43BA-F4C5-4CF8-85CC-3FA783A8DB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80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82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8B20-EB49-4220-BE63-7C061C090D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2050560" y="764640"/>
            <a:ext cx="6629400" cy="22100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Написание сочинения-рассуждения на ЕГ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1500120" y="3928680"/>
            <a:ext cx="6858000" cy="1600200"/>
          </a:xfrm>
          <a:prstGeom prst="rect">
            <a:avLst/>
          </a:prstGeom>
          <a:solidFill>
            <a:srgbClr val="4f917e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рок развития речи в 11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1"/>
          <p:cNvSpPr/>
          <p:nvPr/>
        </p:nvSpPr>
        <p:spPr>
          <a:xfrm>
            <a:off x="3207960" y="5950080"/>
            <a:ext cx="497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Сергеева Светлана Вадим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КОУ «Ушакинская СОШ № 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сненского района Ленинградск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ступление может быть написано в форм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609120" y="2017800"/>
            <a:ext cx="76964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Лирического раз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Ряда риторических вопросов, созвучных теме     (идее, проблем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Диалога с воображаемым собеседн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Ряда назывных предложений, создающих образную картину, возникающую по ассоциациям в связи с проблематикой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Может начинаться с цитаты, пословицы, поговор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Может начинаться с ключевого слова текста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СТУПЛ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82680" algn="just"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людаем этические нормы. Называем автора текста, тему, даём первоначальную оценку. Вступление должно быть небольшим, но оно необходим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120" indent="-382680" algn="just"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0e9e6"/>
                </a:solidFill>
                <a:latin typeface="Arial"/>
              </a:rPr>
              <a:t>«Что такое…? Какое место… занимает в нашей жизни? Об этом размышляет … (автор текста)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120" indent="-382680" algn="just"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0e9e6"/>
                </a:solidFill>
                <a:latin typeface="Arial"/>
              </a:rPr>
              <a:t>«Стоит ли нам сейчас размышлять о…? Ведь общество озабочено совершенно другими проблемами? И всё же автор текста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120" indent="-382680" algn="just"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0e9e6"/>
                </a:solidFill>
                <a:latin typeface="Arial"/>
              </a:rPr>
              <a:t>«Каждый из нас задумывался о том… Именно об этом говорится в тексте…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120" indent="-382680" algn="just"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0e9e6"/>
                </a:solidFill>
                <a:latin typeface="Arial"/>
              </a:rPr>
              <a:t>«(Автор) – замечательный писатель (публицист), которого не оставляют равнодушными проблемы нашего общества…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120" indent="-382680"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120" indent="-382680"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120" indent="-382680"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571760" y="456840"/>
            <a:ext cx="757224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проблема текста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71680" y="1856880"/>
            <a:ext cx="82152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Проблема текста – это вопрос, над которым размышляет авт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algn="just">
              <a:lnSpc>
                <a:spcPct val="8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Этот вопрос может не иметь однозначного ответа.  Наприме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algn="just">
              <a:lnSpc>
                <a:spcPct val="8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В чем смысл жиз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algn="just">
              <a:lnSpc>
                <a:spcPct val="8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Что такое красо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algn="just">
              <a:lnSpc>
                <a:spcPct val="8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Проблемой может быть некоторое противореч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algn="just">
              <a:lnSpc>
                <a:spcPct val="8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конфликт между какими-либо группами людей, их взглядами на жизнь (проблема «отцов» и «детей»)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6" name="Organization Chart 3"/>
          <p:cNvGrpSpPr/>
          <p:nvPr/>
        </p:nvGrpSpPr>
        <p:grpSpPr>
          <a:xfrm>
            <a:off x="228600" y="1521000"/>
            <a:ext cx="8762760" cy="4764240"/>
            <a:chOff x="228600" y="1521000"/>
            <a:chExt cx="8762760" cy="4764240"/>
          </a:xfrm>
        </p:grpSpPr>
        <p:cxnSp>
          <p:nvCxnSpPr>
            <p:cNvPr id="947" name="_s56324"/>
            <p:cNvCxnSpPr>
              <a:stCxn id="948" idx="0"/>
              <a:endCxn id="949" idx="2"/>
            </p:cNvCxnSpPr>
            <p:nvPr/>
          </p:nvCxnSpPr>
          <p:spPr>
            <a:xfrm flipV="1" rot="16200000">
              <a:off x="5625720" y="2299320"/>
              <a:ext cx="839160" cy="3039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0" name="_s56325"/>
            <p:cNvCxnSpPr>
              <a:stCxn id="951" idx="0"/>
              <a:endCxn id="949" idx="2"/>
            </p:cNvCxnSpPr>
            <p:nvPr/>
          </p:nvCxnSpPr>
          <p:spPr>
            <a:xfrm flipH="1" flipV="1" rot="5400000">
              <a:off x="4105080" y="3812040"/>
              <a:ext cx="840600" cy="1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2" name="_s56326"/>
            <p:cNvCxnSpPr>
              <a:stCxn id="953" idx="0"/>
              <a:endCxn id="949" idx="2"/>
            </p:cNvCxnSpPr>
            <p:nvPr/>
          </p:nvCxnSpPr>
          <p:spPr>
            <a:xfrm flipH="1" flipV="1" rot="5400000">
              <a:off x="2623320" y="2330640"/>
              <a:ext cx="840600" cy="2963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49" name="_s56327"/>
            <p:cNvSpPr/>
            <p:nvPr/>
          </p:nvSpPr>
          <p:spPr>
            <a:xfrm>
              <a:off x="3124440" y="1521000"/>
              <a:ext cx="2803320" cy="1872000"/>
            </a:xfrm>
            <a:prstGeom prst="roundRect">
              <a:avLst>
                <a:gd name="adj" fmla="val 16667"/>
              </a:avLst>
            </a:prstGeom>
            <a:solidFill>
              <a:srgbClr val="bae18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Основные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способы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_s56328"/>
            <p:cNvSpPr/>
            <p:nvPr/>
          </p:nvSpPr>
          <p:spPr>
            <a:xfrm>
              <a:off x="228600" y="4233240"/>
              <a:ext cx="2666520" cy="1979280"/>
            </a:xfrm>
            <a:prstGeom prst="roundRect">
              <a:avLst>
                <a:gd name="adj" fmla="val 16667"/>
              </a:avLst>
            </a:prstGeom>
            <a:solidFill>
              <a:srgbClr val="b6df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формулирова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воими слов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_s56329"/>
            <p:cNvSpPr/>
            <p:nvPr/>
          </p:nvSpPr>
          <p:spPr>
            <a:xfrm>
              <a:off x="3183840" y="4233240"/>
              <a:ext cx="2682720" cy="1979280"/>
            </a:xfrm>
            <a:prstGeom prst="roundRect">
              <a:avLst>
                <a:gd name="adj" fmla="val 16667"/>
              </a:avLst>
            </a:prstGeom>
            <a:solidFill>
              <a:srgbClr val="b8e0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оцитирова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_s56330"/>
            <p:cNvSpPr/>
            <p:nvPr/>
          </p:nvSpPr>
          <p:spPr>
            <a:xfrm>
              <a:off x="6138720" y="4233240"/>
              <a:ext cx="2852640" cy="2052000"/>
            </a:xfrm>
            <a:prstGeom prst="roundRect">
              <a:avLst>
                <a:gd name="adj" fmla="val 16667"/>
              </a:avLst>
            </a:prstGeom>
            <a:solidFill>
              <a:srgbClr val="bee3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формулирова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 виде вопрос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28760" y="228600"/>
            <a:ext cx="850104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формулировать проблему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РОБЛЕМА ТЕКС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Прямоугольник 4"/>
          <p:cNvSpPr/>
          <p:nvPr/>
        </p:nvSpPr>
        <p:spPr>
          <a:xfrm>
            <a:off x="0" y="1571760"/>
            <a:ext cx="87152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382680" algn="just">
              <a:lnSpc>
                <a:spcPct val="100000"/>
              </a:lnSpc>
              <a:buClr>
                <a:srgbClr val="f0f4f2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f4f2"/>
                </a:solidFill>
                <a:latin typeface="Times New Roman"/>
              </a:rPr>
              <a:t>Не следует ориентироваться на одну проблему. Их несколько! Лучше сформулировать проблемы в виде вопросительных предло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buClr>
                <a:srgbClr val="0d0d0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d0d0d"/>
                </a:solidFill>
                <a:latin typeface="Times New Roman"/>
              </a:rPr>
              <a:t>Проблема – это сложный вопрос, на который у разных людей могут быть разные отв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buClr>
                <a:srgbClr val="f0f4f2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f4f2"/>
                </a:solidFill>
                <a:latin typeface="Times New Roman"/>
              </a:rPr>
              <a:t>Остерегайтесь </a:t>
            </a:r>
            <a:r>
              <a:rPr b="1" i="1" lang="en-US" sz="2400" spc="-1" strike="noStrike">
                <a:solidFill>
                  <a:srgbClr val="f0f4f2"/>
                </a:solidFill>
                <a:latin typeface="Times New Roman"/>
              </a:rPr>
              <a:t>грамматической ошибки:</a:t>
            </a:r>
            <a:r>
              <a:rPr b="0" lang="en-US" sz="2400" spc="-1" strike="noStrike">
                <a:solidFill>
                  <a:srgbClr val="f0f4f2"/>
                </a:solidFill>
                <a:latin typeface="Times New Roman"/>
              </a:rPr>
              <a:t> проблема чего?   Проблема </a:t>
            </a:r>
            <a:r>
              <a:rPr b="1" i="1" lang="en-US" sz="2400" spc="-1" strike="noStrike">
                <a:solidFill>
                  <a:srgbClr val="f0f4f2"/>
                </a:solidFill>
                <a:latin typeface="Times New Roman"/>
              </a:rPr>
              <a:t>о чём?</a:t>
            </a:r>
            <a:r>
              <a:rPr b="0" lang="en-US" sz="2400" spc="-1" strike="noStrike">
                <a:solidFill>
                  <a:srgbClr val="f0f4f2"/>
                </a:solidFill>
                <a:latin typeface="Times New Roman"/>
              </a:rPr>
              <a:t> – неправи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buClr>
                <a:srgbClr val="f0f4f2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f4f2"/>
                </a:solidFill>
                <a:latin typeface="Times New Roman"/>
              </a:rPr>
              <a:t>«</a:t>
            </a:r>
            <a:r>
              <a:rPr b="0" lang="en-US" sz="2400" spc="-1" strike="noStrike">
                <a:solidFill>
                  <a:srgbClr val="ffcd3c"/>
                </a:solidFill>
                <a:latin typeface="Times New Roman"/>
              </a:rPr>
              <a:t>Писатель заставляет нас задуматься о проблемах 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buClr>
                <a:srgbClr val="ffcd3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d3c"/>
                </a:solidFill>
                <a:latin typeface="Times New Roman"/>
              </a:rPr>
              <a:t>«Писателя волнуют проблемы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buClr>
                <a:srgbClr val="ffcd3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d3c"/>
                </a:solidFill>
                <a:latin typeface="Times New Roman"/>
              </a:rPr>
              <a:t>«Автор вовлекает читателя в круг актуальных проблем: 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buClr>
                <a:srgbClr val="f0f4f2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buClr>
                <a:srgbClr val="f0f4f2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омментарий может быт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Текстуальным</a:t>
            </a: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т.е. ученик объясняет текст, следуя за автором в раскрытии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2. Концепционным, т.е., опираясь на понимание проблемы, экзаменуемый размышляет над поставленным вопросом, пытаясь объяснить, почему автор из множества проблем выбрал именно э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В комментарии не должно бы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1) пересказа исходного тек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2) рассуждения по поводу всех проблем тек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3) общих рассуждений о тек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f5b2b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лише для комментирования пробл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914400" y="1600200"/>
            <a:ext cx="7834320" cy="4997520"/>
          </a:xfrm>
          <a:prstGeom prst="rect">
            <a:avLst/>
          </a:prstGeom>
          <a:solidFill>
            <a:srgbClr val="fbe0d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блема милосердия  - одна из актуальных проблем нашего времени. Она имеет многовековую историю. Каждый из нас не раз сталкивался с этой пробле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тупок героя свидетельствует о том, что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втор осуждает поступок геро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втор заставляет читателя задуматься 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2865600" y="1628640"/>
            <a:ext cx="3598560" cy="720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t">
            <a:normAutofit fontScale="86000"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Автор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Заголовок 1"/>
          <p:cNvSpPr/>
          <p:nvPr/>
        </p:nvSpPr>
        <p:spPr>
          <a:xfrm>
            <a:off x="900000" y="260280"/>
            <a:ext cx="7772400" cy="1143000"/>
          </a:xfrm>
          <a:prstGeom prst="rect">
            <a:avLst/>
          </a:prstGeom>
          <a:solidFill>
            <a:srgbClr val="f5b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лише для комментирования пробл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Стрелка вниз 4"/>
          <p:cNvSpPr/>
          <p:nvPr/>
        </p:nvSpPr>
        <p:spPr>
          <a:xfrm>
            <a:off x="4140360" y="2565360"/>
            <a:ext cx="1049040" cy="115092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4f917e"/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5"/>
          <p:cNvSpPr/>
          <p:nvPr/>
        </p:nvSpPr>
        <p:spPr>
          <a:xfrm>
            <a:off x="857160" y="4143240"/>
            <a:ext cx="79218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Отмечает; описывает; приводит пример того, как; доказывает; убеждает; приходит к выв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-360" y="2057040"/>
            <a:ext cx="3886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текстах официально-делового, научного и публицистического сти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5105520" y="1980720"/>
            <a:ext cx="40384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дея текста и позиция автора, как правило, выражаются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ям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9"/>
          <p:cNvSpPr/>
          <p:nvPr/>
        </p:nvSpPr>
        <p:spPr>
          <a:xfrm>
            <a:off x="380880" y="3886200"/>
            <a:ext cx="325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 текстах художеств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художественно-публицистиче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и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11"/>
          <p:cNvSpPr/>
          <p:nvPr/>
        </p:nvSpPr>
        <p:spPr>
          <a:xfrm>
            <a:off x="5257800" y="42670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дея текста и позиция автора, как правило,      выражаются косвенно( в подтекст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AutoShape 12"/>
          <p:cNvGrpSpPr/>
          <p:nvPr/>
        </p:nvGrpSpPr>
        <p:grpSpPr>
          <a:xfrm>
            <a:off x="3938760" y="944640"/>
            <a:ext cx="5662440" cy="3535200"/>
            <a:chOff x="3938760" y="944640"/>
            <a:chExt cx="5662440" cy="3535200"/>
          </a:xfrm>
        </p:grpSpPr>
        <p:pic>
          <p:nvPicPr>
            <p:cNvPr id="971" name="AutoShape 12" descr=""/>
            <p:cNvPicPr/>
            <p:nvPr/>
          </p:nvPicPr>
          <p:blipFill>
            <a:blip r:embed="rId1"/>
            <a:stretch/>
          </p:blipFill>
          <p:spPr>
            <a:xfrm>
              <a:off x="3938760" y="944640"/>
              <a:ext cx="5662440" cy="35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2" name=""/>
            <p:cNvSpPr/>
            <p:nvPr/>
          </p:nvSpPr>
          <p:spPr>
            <a:xfrm>
              <a:off x="4084560" y="2637000"/>
              <a:ext cx="9702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AutoShape 12"/>
          <p:cNvGrpSpPr/>
          <p:nvPr/>
        </p:nvGrpSpPr>
        <p:grpSpPr>
          <a:xfrm>
            <a:off x="3859200" y="3144960"/>
            <a:ext cx="5668920" cy="3547800"/>
            <a:chOff x="3859200" y="3144960"/>
            <a:chExt cx="5668920" cy="3547800"/>
          </a:xfrm>
        </p:grpSpPr>
        <p:pic>
          <p:nvPicPr>
            <p:cNvPr id="974" name="AutoShape 12" descr=""/>
            <p:cNvPicPr/>
            <p:nvPr/>
          </p:nvPicPr>
          <p:blipFill>
            <a:blip r:embed="rId2"/>
            <a:stretch/>
          </p:blipFill>
          <p:spPr>
            <a:xfrm>
              <a:off x="3859200" y="3144960"/>
              <a:ext cx="5668920" cy="35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5" name=""/>
            <p:cNvSpPr/>
            <p:nvPr/>
          </p:nvSpPr>
          <p:spPr>
            <a:xfrm>
              <a:off x="4008600" y="4846680"/>
              <a:ext cx="9698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6" name="Rectangle 2"/>
          <p:cNvSpPr/>
          <p:nvPr/>
        </p:nvSpPr>
        <p:spPr>
          <a:xfrm>
            <a:off x="990720" y="685800"/>
            <a:ext cx="747216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ИЯ АВТОРА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d0d0d"/>
                </a:solidFill>
                <a:latin typeface="Times New Roman"/>
              </a:rPr>
              <a:t>Позиция автора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914400" y="1357200"/>
            <a:ext cx="77724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82680" algn="just">
              <a:lnSpc>
                <a:spcPct val="80000"/>
              </a:lnSpc>
              <a:spcBef>
                <a:spcPts val="550"/>
              </a:spcBef>
              <a:buClr>
                <a:srgbClr val="a0c6b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сколько слов о позиции автора (пусть будет обязательно употреблено словосочетание «позиция автора»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1120" indent="-382680" algn="just">
              <a:lnSpc>
                <a:spcPct val="80000"/>
              </a:lnSpc>
              <a:spcBef>
                <a:spcPts val="550"/>
              </a:spcBef>
              <a:buClr>
                <a:srgbClr val="a0c6b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зиция автора – это ответы на вопросы-проблемы, поставленные нами во 2 абзаце. Вернитесь к началу текста, к проблемам. Найдите предложение, в котором выражена главная мысль текста. В тексте-рассуждении такое предложение есть. Его можно полностью или частично процитировать. В этом абзаце достаточно двух предложен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1120" indent="-382680" algn="just">
              <a:lnSpc>
                <a:spcPct val="80000"/>
              </a:lnSpc>
              <a:spcBef>
                <a:spcPts val="550"/>
              </a:spcBef>
              <a:buClr>
                <a:srgbClr val="a0c6b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«Позиция автора текста мне понятна. Его волнует…, но он верит в то, что…(надеется на то, что…)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1120" indent="-382680" algn="just">
              <a:lnSpc>
                <a:spcPct val="80000"/>
              </a:lnSpc>
              <a:spcBef>
                <a:spcPts val="550"/>
              </a:spcBef>
              <a:buClr>
                <a:srgbClr val="a0c6b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Есть опасность в повторении мыслей!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дберите другие слова! Лучше в комментариях пересказать текст своими словами, а в этом абзаце взять цитату из текста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Цели уро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разовательная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готовить обучающихся к сочинению-рассуждению по исходному тексту и в ходе комплексного анализа текста повторить и обобщить теоретические знания по созданию текста-рассуждения в формате ЕГЭ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вивающая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развивать коммуникативные навыки, речевую культуру, познавательные и творческие возможности  обучаю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спитательна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спитать уважительное отношение к чужому мнению, философского отношения к своим поступкам и осознания последствий своих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74560" y="333000"/>
            <a:ext cx="8569440" cy="1143000"/>
          </a:xfrm>
          <a:prstGeom prst="rect">
            <a:avLst/>
          </a:prstGeom>
          <a:solidFill>
            <a:srgbClr val="f5b2b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Аргументация собственной пози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0" name="" descr=""/>
          <p:cNvPicPr/>
          <p:nvPr/>
        </p:nvPicPr>
        <p:blipFill>
          <a:blip r:embed="rId1"/>
          <a:stretch/>
        </p:blipFill>
        <p:spPr>
          <a:xfrm>
            <a:off x="914400" y="1599840"/>
            <a:ext cx="7772400" cy="4530600"/>
          </a:xfrm>
          <a:prstGeom prst="rect">
            <a:avLst/>
          </a:prstGeom>
          <a:ln w="0">
            <a:noFill/>
          </a:ln>
        </p:spPr>
      </p:pic>
      <p:sp>
        <p:nvSpPr>
          <p:cNvPr id="981" name="Скругленный прямоугольник 3"/>
          <p:cNvSpPr/>
          <p:nvPr/>
        </p:nvSpPr>
        <p:spPr>
          <a:xfrm>
            <a:off x="1523880" y="1773360"/>
            <a:ext cx="6696360" cy="914400"/>
          </a:xfrm>
          <a:prstGeom prst="roundRect">
            <a:avLst>
              <a:gd name="adj" fmla="val 16667"/>
            </a:avLst>
          </a:prstGeom>
          <a:solidFill>
            <a:srgbClr val="4f917e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7300"/>
                </a:solidFill>
                <a:latin typeface="Monotype Corsiva"/>
              </a:rPr>
              <a:t>Собственное м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Box 4"/>
          <p:cNvSpPr/>
          <p:nvPr/>
        </p:nvSpPr>
        <p:spPr>
          <a:xfrm>
            <a:off x="755640" y="2997360"/>
            <a:ext cx="806436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еобходимо заявить о своем мнении: я согласен (не согласен) с автором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аша позиция должна быть сформулирована в отдельном предлож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зиция должна быть подкреплена двумя аргумент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fbe0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91411"/>
                </a:solidFill>
                <a:latin typeface="Times New Roman"/>
              </a:rPr>
              <a:t>Аргументац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813960" y="1555560"/>
            <a:ext cx="828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ргумен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это основания, доводы, подтверж-дающие или опровергающие какую-либо мыс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ют определённые виды аргумен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логические (выводы науки, статистика, законы природы, положение юридических законов, официальных документов, свидетельства очевидце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ллюстративные (литературный приме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дположительные (ссылки на авторитет: мнение учёного, философ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fbe0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91411"/>
                </a:solidFill>
                <a:latin typeface="Times New Roman"/>
              </a:rPr>
              <a:t>Аргументац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Скругленный прямоугольник 4"/>
          <p:cNvSpPr/>
          <p:nvPr/>
        </p:nvSpPr>
        <p:spPr>
          <a:xfrm>
            <a:off x="4211640" y="2349360"/>
            <a:ext cx="4848120" cy="4141800"/>
          </a:xfrm>
          <a:prstGeom prst="roundRect">
            <a:avLst>
              <a:gd name="adj" fmla="val 16667"/>
            </a:avLst>
          </a:prstGeom>
          <a:solidFill>
            <a:srgbClr val="4f917e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романе Л.Н.Толстого «Война и мир» описывается сцена Пети Ростова и мальчика – француза.   Для Пети этот французский барабанщик - не враг, а такой же мальчик, как он. Петя жалеет пленного, говорит с ним нежным шепотом, волнуется за него. Проявили заботу о пленном французе и простые солдаты, они накормили его, разрешили греться у ко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Box 3"/>
          <p:cNvSpPr/>
          <p:nvPr/>
        </p:nvSpPr>
        <p:spPr>
          <a:xfrm>
            <a:off x="395280" y="1522440"/>
            <a:ext cx="8661240" cy="581400"/>
          </a:xfrm>
          <a:prstGeom prst="rect">
            <a:avLst/>
          </a:prstGeom>
          <a:solidFill>
            <a:srgbClr val="f5b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имер из художественного произвед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8" name="Рисунок 5" descr="img_026.jpg"/>
          <p:cNvPicPr/>
          <p:nvPr/>
        </p:nvPicPr>
        <p:blipFill>
          <a:blip r:embed="rId1"/>
          <a:stretch/>
        </p:blipFill>
        <p:spPr>
          <a:xfrm>
            <a:off x="214200" y="2571840"/>
            <a:ext cx="38102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fbe0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91411"/>
                </a:solidFill>
                <a:latin typeface="Times New Roman"/>
              </a:rPr>
              <a:t>Аргументация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Box 4"/>
          <p:cNvSpPr/>
          <p:nvPr/>
        </p:nvSpPr>
        <p:spPr>
          <a:xfrm>
            <a:off x="395280" y="1522440"/>
            <a:ext cx="8661240" cy="581400"/>
          </a:xfrm>
          <a:prstGeom prst="rect">
            <a:avLst/>
          </a:prstGeom>
          <a:solidFill>
            <a:srgbClr val="f5b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.Солоухин «Мстите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2" name="Picture 2" descr="http://booksbunker.com/get_binary/507fbfb3d3785.fb2/pic09_2.png/1"/>
          <p:cNvPicPr/>
          <p:nvPr/>
        </p:nvPicPr>
        <p:blipFill>
          <a:blip r:embed="rId1"/>
          <a:stretch/>
        </p:blipFill>
        <p:spPr>
          <a:xfrm>
            <a:off x="928800" y="2428920"/>
            <a:ext cx="2306520" cy="3690720"/>
          </a:xfrm>
          <a:prstGeom prst="rect">
            <a:avLst/>
          </a:prstGeom>
          <a:ln w="0">
            <a:noFill/>
          </a:ln>
        </p:spPr>
      </p:pic>
      <p:sp>
        <p:nvSpPr>
          <p:cNvPr id="993" name="Скругленный прямоугольник 4"/>
          <p:cNvSpPr/>
          <p:nvPr/>
        </p:nvSpPr>
        <p:spPr>
          <a:xfrm>
            <a:off x="3429000" y="2349360"/>
            <a:ext cx="5630760" cy="4141800"/>
          </a:xfrm>
          <a:prstGeom prst="roundRect">
            <a:avLst>
              <a:gd name="adj" fmla="val 16667"/>
            </a:avLst>
          </a:prstGeom>
          <a:solidFill>
            <a:srgbClr val="4f917e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лавные герои — школьники, учащиеся одной школы, одного класса. Один из них Витька Агафонов, другой, судя по повествованию от первого лица, — автор. Работая на пришкольном участке, ученики «веселились», насаживая комья земли на гибкие прутья и бросая слепленные шарики в воздух. Один комок, брошенный Витькой, возможно нечаянно, а может, и специально, попадает рассказчику в спину. Потерпевший отказывается от возмездия, он сумел простить обидчика и тем самым облегчил себе жизнь. «Мне делается легко от приятного решения не бить Витьк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fbe0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Заключительная част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900000" y="1844280"/>
            <a:ext cx="7772400" cy="4530600"/>
          </a:xfrm>
          <a:prstGeom prst="rect">
            <a:avLst/>
          </a:prstGeom>
          <a:solidFill>
            <a:srgbClr val="b5d7c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нцовка-вывод (сжатый в несколько строк итог всего со­чинения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нцовка-ответ (энергичный ответ на вопрос, поставленный в начале сочинения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нцовка-цитата (яркая цитата, содержащая в себе суть идеи сочин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000080" y="285480"/>
            <a:ext cx="7772400" cy="1143000"/>
          </a:xfrm>
          <a:prstGeom prst="rect">
            <a:avLst/>
          </a:prstGeom>
          <a:solidFill>
            <a:srgbClr val="f5b2b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ыво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971640" y="2133360"/>
            <a:ext cx="7905600" cy="247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Возлюби ближнего своего…». Ближним может быть не только человек, но и любое живое существо, нуждающееся в тепле, внимании, заботе, любви. Чтобы наше сердце не остыло, мы должны помнить об э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1"/>
          <a:stretch/>
        </p:blipFill>
        <p:spPr>
          <a:xfrm>
            <a:off x="914400" y="1599840"/>
            <a:ext cx="7772400" cy="453060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2" descr="http://fs00.infourok.ru/images/doc/188/214977/img1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Задачи уро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коммуникативной компетенции обучающихся через систему творческих за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культуроведческой компетенции обучающихся через интеграцию с уроками искус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понятия о сострадании как человеческой доброде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мышление о каждодневном материнском созид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таких качеств, как любовь к ближнему, доброта, милосерд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РИТЧА  «Незабудка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1" name="Picture 2" descr="http://www.liveinternet.ru/journal_proc.php?action=redirect&amp;url=http://img0.liveinternet.ru/images/attach/c/9/105/770/105770498_large_3528972_1280x720_703579_www_ArtFile_ru_2_.jpg"/>
          <p:cNvPicPr/>
          <p:nvPr/>
        </p:nvPicPr>
        <p:blipFill>
          <a:blip r:embed="rId1"/>
          <a:stretch/>
        </p:blipFill>
        <p:spPr>
          <a:xfrm>
            <a:off x="1357200" y="1500120"/>
            <a:ext cx="665820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Содержимое 3" descr=""/>
          <p:cNvPicPr/>
          <p:nvPr/>
        </p:nvPicPr>
        <p:blipFill>
          <a:blip r:embed="rId1"/>
          <a:stretch/>
        </p:blipFill>
        <p:spPr>
          <a:xfrm>
            <a:off x="450720" y="1603440"/>
            <a:ext cx="7255080" cy="4857840"/>
          </a:xfrm>
          <a:prstGeom prst="rect">
            <a:avLst/>
          </a:prstGeom>
          <a:ln w="0">
            <a:noFill/>
          </a:ln>
        </p:spPr>
      </p:pic>
      <p:pic>
        <p:nvPicPr>
          <p:cNvPr id="913" name="Схема 4" descr=""/>
          <p:cNvPicPr/>
          <p:nvPr/>
        </p:nvPicPr>
        <p:blipFill>
          <a:blip r:embed="rId2"/>
          <a:stretch/>
        </p:blipFill>
        <p:spPr>
          <a:xfrm>
            <a:off x="1279440" y="407880"/>
            <a:ext cx="7371000" cy="57549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.Закруткин «Матерь человеческая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5" name="Содержимое 3" descr="http://doc4web.ru/uploads/files/54/53634/hello_html_6ff48ea4.png"/>
          <p:cNvPicPr/>
          <p:nvPr/>
        </p:nvPicPr>
        <p:blipFill>
          <a:blip r:embed="rId1"/>
          <a:stretch/>
        </p:blipFill>
        <p:spPr>
          <a:xfrm>
            <a:off x="214200" y="214200"/>
            <a:ext cx="1643040" cy="2571840"/>
          </a:xfrm>
          <a:prstGeom prst="rect">
            <a:avLst/>
          </a:prstGeom>
          <a:ln w="0">
            <a:noFill/>
          </a:ln>
        </p:spPr>
      </p:pic>
      <p:pic>
        <p:nvPicPr>
          <p:cNvPr id="916" name="Рисунок 1" descr="C:\Documents and Settings\Седьмой\Рабочий стол\Надежде Николаевне\1.jpg"/>
          <p:cNvPicPr/>
          <p:nvPr/>
        </p:nvPicPr>
        <p:blipFill>
          <a:blip r:embed="rId2"/>
          <a:stretch/>
        </p:blipFill>
        <p:spPr>
          <a:xfrm>
            <a:off x="7215120" y="857160"/>
            <a:ext cx="1724040" cy="2820960"/>
          </a:xfrm>
          <a:prstGeom prst="rect">
            <a:avLst/>
          </a:prstGeom>
          <a:ln w="0">
            <a:noFill/>
          </a:ln>
        </p:spPr>
      </p:pic>
      <p:pic>
        <p:nvPicPr>
          <p:cNvPr id="917" name="Рисунок 4" descr="C:\Documents and Settings\Седьмой\Рабочий стол\Надежде Николаевне\4.jpg"/>
          <p:cNvPicPr/>
          <p:nvPr/>
        </p:nvPicPr>
        <p:blipFill>
          <a:blip r:embed="rId3"/>
          <a:stretch/>
        </p:blipFill>
        <p:spPr>
          <a:xfrm>
            <a:off x="6215040" y="3786120"/>
            <a:ext cx="2046240" cy="3210120"/>
          </a:xfrm>
          <a:prstGeom prst="rect">
            <a:avLst/>
          </a:prstGeom>
          <a:ln w="0">
            <a:noFill/>
          </a:ln>
        </p:spPr>
      </p:pic>
      <p:pic>
        <p:nvPicPr>
          <p:cNvPr id="918" name="Рисунок 3" descr="C:\Documents and Settings\Седьмой\Рабочий стол\Надежде Николаевне\6.jpg"/>
          <p:cNvPicPr/>
          <p:nvPr/>
        </p:nvPicPr>
        <p:blipFill>
          <a:blip r:embed="rId4"/>
          <a:stretch/>
        </p:blipFill>
        <p:spPr>
          <a:xfrm>
            <a:off x="357120" y="2928960"/>
            <a:ext cx="2365560" cy="367200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4" descr=""/>
          <p:cNvPicPr/>
          <p:nvPr/>
        </p:nvPicPr>
        <p:blipFill>
          <a:blip r:embed="rId5"/>
          <a:stretch/>
        </p:blipFill>
        <p:spPr>
          <a:xfrm>
            <a:off x="2786040" y="1000080"/>
            <a:ext cx="32148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Содержимое 3" descr=""/>
          <p:cNvPicPr/>
          <p:nvPr/>
        </p:nvPicPr>
        <p:blipFill>
          <a:blip r:embed="rId1"/>
          <a:stretch/>
        </p:blipFill>
        <p:spPr>
          <a:xfrm>
            <a:off x="450720" y="1603440"/>
            <a:ext cx="7255080" cy="4857840"/>
          </a:xfrm>
          <a:prstGeom prst="rect">
            <a:avLst/>
          </a:prstGeom>
          <a:ln w="0">
            <a:noFill/>
          </a:ln>
        </p:spPr>
      </p:pic>
      <p:pic>
        <p:nvPicPr>
          <p:cNvPr id="921" name="Схема 4" descr=""/>
          <p:cNvPicPr/>
          <p:nvPr/>
        </p:nvPicPr>
        <p:blipFill>
          <a:blip r:embed="rId2"/>
          <a:stretch/>
        </p:blipFill>
        <p:spPr>
          <a:xfrm>
            <a:off x="1279440" y="414360"/>
            <a:ext cx="7096320" cy="5742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971640" y="115920"/>
            <a:ext cx="7772400" cy="792000"/>
          </a:xfrm>
          <a:prstGeom prst="rect">
            <a:avLst/>
          </a:prstGeom>
          <a:solidFill>
            <a:srgbClr val="f5b2b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омпозиция сочин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2388960" y="1868760"/>
            <a:ext cx="4488840" cy="447120"/>
          </a:xfrm>
          <a:prstGeom prst="rect">
            <a:avLst/>
          </a:prstGeom>
          <a:solidFill>
            <a:srgbClr val="4f917e"/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txBody>
          <a:bodyPr anchor="t">
            <a:normAutofit fontScale="82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7300"/>
                </a:solidFill>
                <a:latin typeface="Monotype Corsiva"/>
              </a:rPr>
              <a:t>Комментарий к пробл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Скругленный прямоугольник 3"/>
          <p:cNvSpPr/>
          <p:nvPr/>
        </p:nvSpPr>
        <p:spPr>
          <a:xfrm>
            <a:off x="2340000" y="1025640"/>
            <a:ext cx="4535640" cy="457200"/>
          </a:xfrm>
          <a:prstGeom prst="roundRect">
            <a:avLst>
              <a:gd name="adj" fmla="val 16667"/>
            </a:avLst>
          </a:prstGeom>
          <a:solidFill>
            <a:srgbClr val="4f917e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0000"/>
                </a:solidFill>
                <a:latin typeface="Monotype Corsiva"/>
              </a:rPr>
              <a:t>Пробл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Скругленный прямоугольник 6"/>
          <p:cNvSpPr/>
          <p:nvPr/>
        </p:nvSpPr>
        <p:spPr>
          <a:xfrm>
            <a:off x="2336760" y="5300640"/>
            <a:ext cx="4537080" cy="457200"/>
          </a:xfrm>
          <a:prstGeom prst="roundRect">
            <a:avLst>
              <a:gd name="adj" fmla="val 16667"/>
            </a:avLst>
          </a:prstGeom>
          <a:solidFill>
            <a:srgbClr val="4f917e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0000"/>
                </a:solidFill>
                <a:latin typeface="Monotype Corsiva"/>
              </a:rPr>
              <a:t>Аргуме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Скругленный прямоугольник 7"/>
          <p:cNvSpPr/>
          <p:nvPr/>
        </p:nvSpPr>
        <p:spPr>
          <a:xfrm>
            <a:off x="2340000" y="4365720"/>
            <a:ext cx="4535640" cy="457200"/>
          </a:xfrm>
          <a:prstGeom prst="roundRect">
            <a:avLst>
              <a:gd name="adj" fmla="val 16667"/>
            </a:avLst>
          </a:prstGeom>
          <a:solidFill>
            <a:srgbClr val="4f917e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0000"/>
                </a:solidFill>
                <a:latin typeface="Monotype Corsiva"/>
              </a:rPr>
              <a:t>Аргумен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Скругленный прямоугольник 8"/>
          <p:cNvSpPr/>
          <p:nvPr/>
        </p:nvSpPr>
        <p:spPr>
          <a:xfrm>
            <a:off x="2306520" y="2606760"/>
            <a:ext cx="4537080" cy="457200"/>
          </a:xfrm>
          <a:prstGeom prst="roundRect">
            <a:avLst>
              <a:gd name="adj" fmla="val 16667"/>
            </a:avLst>
          </a:prstGeom>
          <a:solidFill>
            <a:srgbClr val="4f917e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0000"/>
                </a:solidFill>
                <a:latin typeface="Monotype Corsiva"/>
              </a:rPr>
              <a:t>Позиция ав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Скругленный прямоугольник 9"/>
          <p:cNvSpPr/>
          <p:nvPr/>
        </p:nvSpPr>
        <p:spPr>
          <a:xfrm>
            <a:off x="2365200" y="3429000"/>
            <a:ext cx="4537080" cy="457200"/>
          </a:xfrm>
          <a:prstGeom prst="roundRect">
            <a:avLst>
              <a:gd name="adj" fmla="val 16667"/>
            </a:avLst>
          </a:prstGeom>
          <a:solidFill>
            <a:srgbClr val="4f917e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0000"/>
                </a:solidFill>
                <a:latin typeface="Monotype Corsiva"/>
              </a:rPr>
              <a:t>Собственное м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Скругленный прямоугольник 10"/>
          <p:cNvSpPr/>
          <p:nvPr/>
        </p:nvSpPr>
        <p:spPr>
          <a:xfrm>
            <a:off x="2346480" y="6165720"/>
            <a:ext cx="4535280" cy="457200"/>
          </a:xfrm>
          <a:prstGeom prst="roundRect">
            <a:avLst>
              <a:gd name="adj" fmla="val 16667"/>
            </a:avLst>
          </a:prstGeom>
          <a:solidFill>
            <a:srgbClr val="4f917e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0000"/>
                </a:solidFill>
                <a:latin typeface="Monotype Corsiva"/>
              </a:rPr>
              <a:t>Вы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Стрелка вниз 11"/>
          <p:cNvSpPr/>
          <p:nvPr/>
        </p:nvSpPr>
        <p:spPr>
          <a:xfrm>
            <a:off x="4470480" y="1521000"/>
            <a:ext cx="242640" cy="36036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4f917e"/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Стрелка вниз 13"/>
          <p:cNvSpPr/>
          <p:nvPr/>
        </p:nvSpPr>
        <p:spPr>
          <a:xfrm>
            <a:off x="4470480" y="2287440"/>
            <a:ext cx="242640" cy="36036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4f917e"/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Стрелка вниз 14"/>
          <p:cNvSpPr/>
          <p:nvPr/>
        </p:nvSpPr>
        <p:spPr>
          <a:xfrm>
            <a:off x="4460760" y="3065400"/>
            <a:ext cx="241560" cy="360360"/>
          </a:xfrm>
          <a:prstGeom prst="downArrow">
            <a:avLst>
              <a:gd name="adj1" fmla="val 50000"/>
              <a:gd name="adj2" fmla="val 50203"/>
            </a:avLst>
          </a:prstGeom>
          <a:solidFill>
            <a:srgbClr val="4f917e"/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Стрелка вниз 15"/>
          <p:cNvSpPr/>
          <p:nvPr/>
        </p:nvSpPr>
        <p:spPr>
          <a:xfrm>
            <a:off x="4460760" y="4002120"/>
            <a:ext cx="241560" cy="360360"/>
          </a:xfrm>
          <a:prstGeom prst="downArrow">
            <a:avLst>
              <a:gd name="adj1" fmla="val 50000"/>
              <a:gd name="adj2" fmla="val 50203"/>
            </a:avLst>
          </a:prstGeom>
          <a:solidFill>
            <a:srgbClr val="4f917e"/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Стрелка вниз 16"/>
          <p:cNvSpPr/>
          <p:nvPr/>
        </p:nvSpPr>
        <p:spPr>
          <a:xfrm>
            <a:off x="4454640" y="4941720"/>
            <a:ext cx="241200" cy="358920"/>
          </a:xfrm>
          <a:prstGeom prst="downArrow">
            <a:avLst>
              <a:gd name="adj1" fmla="val 50000"/>
              <a:gd name="adj2" fmla="val 50077"/>
            </a:avLst>
          </a:prstGeom>
          <a:solidFill>
            <a:srgbClr val="4f917e"/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Стрелка вниз 17"/>
          <p:cNvSpPr/>
          <p:nvPr/>
        </p:nvSpPr>
        <p:spPr>
          <a:xfrm flipH="1">
            <a:off x="4419000" y="5802480"/>
            <a:ext cx="214200" cy="360360"/>
          </a:xfrm>
          <a:prstGeom prst="downArrow">
            <a:avLst>
              <a:gd name="adj1" fmla="val 50000"/>
              <a:gd name="adj2" fmla="val 50206"/>
            </a:avLst>
          </a:prstGeom>
          <a:solidFill>
            <a:srgbClr val="4f917e"/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италий Закрутки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8" name="Picture 2" descr="knigpero"/>
          <p:cNvPicPr/>
          <p:nvPr/>
        </p:nvPicPr>
        <p:blipFill>
          <a:blip r:embed="rId1"/>
          <a:stretch/>
        </p:blipFill>
        <p:spPr>
          <a:xfrm>
            <a:off x="-71280" y="0"/>
            <a:ext cx="2881080" cy="1270080"/>
          </a:xfrm>
          <a:prstGeom prst="rect">
            <a:avLst/>
          </a:prstGeom>
          <a:ln w="0">
            <a:noFill/>
          </a:ln>
        </p:spPr>
      </p:pic>
      <p:sp>
        <p:nvSpPr>
          <p:cNvPr id="939" name="Прямоугольник 8"/>
          <p:cNvSpPr/>
          <p:nvPr/>
        </p:nvSpPr>
        <p:spPr>
          <a:xfrm>
            <a:off x="1000080" y="1428840"/>
            <a:ext cx="7929720" cy="48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Родился в 1908 в городе Феодосии.  Закруткин сдал все экзамены экстерном в Благовещенском пединститу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В 1932 году  дппломную работу защитил с таким блеском, что его рекомендовали в аспирантуру Ленинградского пединститу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Война круто изменила планы Закруткина, он отправляется на фронт военным корреспондентом. По живым впечатлениям от боев им была написана книга фронтовых рассказов и очерков «На переднем плане» (Пятигорск, 1942 г.). Сотрудничая с армейскими газетами, Закруткин снабжал их репортажами и очерками с окопных передовых. Войну завершил в Берл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В. Закруткин – автор рассказа «Подсолнух», повести  «Матерь человеческая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До конца своих дней Виталий Александрович работал над пове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«На Золотых Песках», которая так и осталась незаверше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5T11:55:11Z</dcterms:created>
  <dc:creator>Admin</dc:creator>
  <dc:description/>
  <dc:language>en-US</dc:language>
  <cp:lastModifiedBy>02</cp:lastModifiedBy>
  <dcterms:modified xsi:type="dcterms:W3CDTF">2015-11-23T10:19:04Z</dcterms:modified>
  <cp:revision>81</cp:revision>
  <dc:subject/>
  <dc:title>Подготовка к написанию сочинения-рассуждения</dc:title>
</cp:coreProperties>
</file>